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2E7-4A87-4937-8D4E-D1E428B0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C67-6CBE-4A18-9A90-676290AD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8E6-7D39-4A28-9E87-77628115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5E1-1E5A-4896-8E7C-A229988A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F73-9793-4015-A56C-F88F7BF0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4E0-DAB6-4946-9696-7F11D12B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B2E-EA10-4629-AFB2-4FA259C8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A20-1E43-4F12-BD59-5F83F662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BAD-9015-46F0-9F86-AC23D14B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079-7E5A-4971-BB52-9637221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698-5ABD-48A2-8257-4C718DE9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A40-F65B-431B-B834-10B54686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6B28-635F-4F45-9C34-490B261A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acad.fcps.org/accomm/overview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Accommodating Assignments</a:t>
            </a:r>
            <a:br>
              <a:rPr sz="60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ing Instruction to Me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s of Al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263680" cy="24386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ksheet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provide clear, concise written &amp; verbal dir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xamples with the directions when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the learner how to do the work with the example, even if you already tau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are more than one set of directions on a worksheet page, be sure to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ighligh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s in some way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d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ali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under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701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heet Exampl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y content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809880" cy="3809880"/>
          </a:xfrm>
          <a:prstGeom prst="rect">
            <a:avLst/>
          </a:prstGeom>
          <a:ln w="442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ote T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note taking/pace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copy of student or teacher notes to be give automatically to those who nee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partially completed outline of notes or brief fill in the blank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chart or graphic organizer to be filled in during the note-t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nteractive note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tudents time to correct notes, talk about notes, and reflect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s, write 3 key ideas from not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724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tudy Guides &amp; T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Assessment sections of your brochure (parts 3&amp;4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question on the back panel:  “What different ways do you or will you accommodate assessments, study guides, and assessment formats in your class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cket, read through the sample study guides and tests.  Discuss which are well-adapted and what needs to b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w 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81360" cy="1762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8000" y="1676520"/>
            <a:ext cx="5329440" cy="21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cad.fcps.org/accomm/overview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CPS Practical Implementation of Accommodations 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 tour and explanation of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“Experience Firsthand” activities linked to misUnderstood Minds  (link on our wiki—under session 8) and complete the reflection to turn in when we meet again on 5/9/20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Practical Implementation of Accommodations Tutorial, including the final reflection.  Print this page to turn in on 5/9/20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work on 3 credit assign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arm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Read the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a student (or students) you have h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ast or currently have that cam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 as you read the l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Turn to a partner and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ccommodations do you currently make fo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 to improve their learning in your content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26956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ession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95280"/>
            <a:ext cx="84582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wil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Understand how the student with special needs lea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Experience practical application of accommodations that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en learning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Validate and add to your current tool box of accommo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pport student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learning style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and assess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Apply accommoda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lass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6766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ommo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521000"/>
            <a:ext cx="822960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intended to reduce or mediate the effects of the student’s disability; they are not intended to reduce the learning expec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commodations must occur during instruction, as well as assess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 the Maryland Statewide Individualized Education Program (IEP) Process Guide, MSDE Special Education/Early Intervention Sevices, May 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m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521000"/>
            <a:ext cx="82296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332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cess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521000"/>
            <a:ext cx="82296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s gu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way to promote independence in any stud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has difficulty with attention or multiple st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the sample process guid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students with spe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student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31845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ing Across the Curriculu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ch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2004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kshee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adapt them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eeds of my lear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5627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ayou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ample white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 Worksheets = Confused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question per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items per concept to a minimum.  Shortening the items expected can benefit your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worksheets into sections using text boxes or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21400" y="1523880"/>
            <a:ext cx="37749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3:12:47Z</dcterms:created>
  <dc:creator>fcps</dc:creator>
  <dc:description/>
  <dc:language>en-US</dc:language>
  <cp:lastModifiedBy>fcps</cp:lastModifiedBy>
  <dcterms:modified xsi:type="dcterms:W3CDTF">2011-04-11T16:11:54Z</dcterms:modified>
  <cp:revision>10</cp:revision>
  <dc:subject/>
  <dc:title>Slide 1</dc:title>
</cp:coreProperties>
</file>